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2B337-7556-4AF7-B314-3D20EA8BA8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61C47-242B-42F1-A845-A22B2F1B510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32C6D-1CE7-448F-AC6E-4AF6E0F6418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718EA-B64E-420C-9A62-54A283C8092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FDE84-5757-4BC7-8B7A-902AA776C2B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B37DA-C5E1-4E7C-88CF-47AA7F5EE9F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652E2-D368-4792-A1EA-7BBE2C9C3B2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4C3AC-D040-462E-83D0-F01DA37AE8F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54144-254E-48E5-8DFB-EBE1EDD057C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2743-C57C-463D-BD6D-55950D5691D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2603-D996-411A-A60A-A7B466113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9144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0" y="4564440"/>
            <a:ext cx="9144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0A0E-22BF-44EC-867E-1D1B8CD09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85760" y="205704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0" y="456444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85760" y="456444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26BF-5299-4CCB-9176-8B8D0CCDF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91680" y="205704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183360" y="205704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0" y="456444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091680" y="456444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183360" y="456444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9987-FE6F-4839-A964-B8690B7DD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D6A35-ED04-4699-95CB-179EA9B48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0" y="20570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F495A-EBB9-40FD-94B8-51610D1C3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0D1B8-D6B1-4DE7-B355-979BBCC5E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85760" y="205704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6187A-D509-40A1-B024-649237B5E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43F1F-91FC-4B35-971D-E358C274E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52E37-0C46-4CD0-9DF1-8DAEC3B9C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85760" y="205704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0" y="456444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1BA76-B93B-4880-A81D-C69C2080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0" y="20570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F372-6E6E-4221-A95E-E6DD77F01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85760" y="205704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85760" y="456444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A8F48-463C-4E23-B626-0DC8E48C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85760" y="205704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0" y="4564440"/>
            <a:ext cx="9144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56A63-621F-418A-86F4-3CCCE145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9144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0" y="4564440"/>
            <a:ext cx="9144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2A91C-E876-4F21-9A77-6389D6303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85760" y="205704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0" y="456444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85760" y="456444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69985-49D4-4899-A166-9D37073A4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091680" y="205704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183360" y="205704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0" y="456444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091680" y="456444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183360" y="456444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C58DB-FAD4-4A7F-9D77-0E69F5283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E86A-BA37-498F-BA8F-B59579C0B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85760" y="205704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B4CC-2744-4A7B-A8AF-D736FC007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89FC-C3AA-4991-8CCA-CCDE99485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711F-DC71-4897-99AB-CBAB8AE67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85760" y="205704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0" y="456444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412C-5C89-44ED-BA84-2257427F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5760" y="205704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85760" y="456444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F15D-BC1A-4415-ABF5-363C5681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85760" y="205704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0" y="4564440"/>
            <a:ext cx="9144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AC2F-D426-4BC2-B2F6-D055D9A8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20570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92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92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92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E0B44-EAE5-40B0-990C-E40C698F80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>
                  <a:gd name="textAreaLeft" fmla="*/ 0 w 7696080"/>
                  <a:gd name="textAreaRight" fmla="*/ 7696440 w 7696080"/>
                  <a:gd name="textAreaTop" fmla="*/ 0 h 685800"/>
                  <a:gd name="textAreaBottom" fmla="*/ 686160 h 685800"/>
                </a:gdLst>
                <a:ahLst/>
                <a:rect l="textAreaLeft" t="textAreaTop" r="textAreaRight" b="textAreaBottom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>
                      <a:gd name="textAreaLeft" fmla="*/ 0 w 11160"/>
                      <a:gd name="textAreaRight" fmla="*/ 11520 w 1116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21960"/>
                      <a:gd name="textAreaBottom" fmla="*/ 22320 h 21960"/>
                    </a:gdLst>
                    <a:ahLst/>
                    <a:rect l="textAreaLeft" t="textAreaTop" r="textAreaRight" b="textAreaBottom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>
                      <a:gd name="textAreaLeft" fmla="*/ 0 w 17280"/>
                      <a:gd name="textAreaRight" fmla="*/ 17640 w 1728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>
                      <a:gd name="textAreaLeft" fmla="*/ 0 w 44640"/>
                      <a:gd name="textAreaRight" fmla="*/ 45000 w 44640"/>
                      <a:gd name="textAreaTop" fmla="*/ 0 h 25200"/>
                      <a:gd name="textAreaBottom" fmla="*/ 25560 h 25200"/>
                    </a:gdLst>
                    <a:ahLst/>
                    <a:rect l="textAreaLeft" t="textAreaTop" r="textAreaRight" b="textAreaBottom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>
                      <a:gd name="textAreaLeft" fmla="*/ 0 w 46080"/>
                      <a:gd name="textAreaRight" fmla="*/ 46440 w 46080"/>
                      <a:gd name="textAreaTop" fmla="*/ 0 h 24840"/>
                      <a:gd name="textAreaBottom" fmla="*/ 25200 h 24840"/>
                    </a:gdLst>
                    <a:ahLst/>
                    <a:rect l="textAreaLeft" t="textAreaTop" r="textAreaRight" b="textAreaBottom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>
                      <a:gd name="textAreaLeft" fmla="*/ 0 w 239760"/>
                      <a:gd name="textAreaRight" fmla="*/ 240120 w 239760"/>
                      <a:gd name="textAreaTop" fmla="*/ 0 h 147240"/>
                      <a:gd name="textAreaBottom" fmla="*/ 147600 h 147240"/>
                    </a:gdLst>
                    <a:ahLst/>
                    <a:rect l="textAreaLeft" t="textAreaTop" r="textAreaRight" b="textAreaBottom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>
                      <a:gd name="textAreaLeft" fmla="*/ 0 w 106200"/>
                      <a:gd name="textAreaRight" fmla="*/ 106560 w 106200"/>
                      <a:gd name="textAreaTop" fmla="*/ 0 h 107640"/>
                      <a:gd name="textAreaBottom" fmla="*/ 108000 h 107640"/>
                    </a:gdLst>
                    <a:ahLst/>
                    <a:rect l="textAreaLeft" t="textAreaTop" r="textAreaRight" b="textAreaBottom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>
                      <a:gd name="textAreaLeft" fmla="*/ 0 w 74520"/>
                      <a:gd name="textAreaRight" fmla="*/ 74880 w 74520"/>
                      <a:gd name="textAreaTop" fmla="*/ 0 h 20520"/>
                      <a:gd name="textAreaBottom" fmla="*/ 20880 h 20520"/>
                    </a:gdLst>
                    <a:ahLst/>
                    <a:rect l="textAreaLeft" t="textAreaTop" r="textAreaRight" b="textAreaBottom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>
                      <a:gd name="textAreaLeft" fmla="*/ 0 w 50760"/>
                      <a:gd name="textAreaRight" fmla="*/ 51120 w 50760"/>
                      <a:gd name="textAreaTop" fmla="*/ 0 h 53640"/>
                      <a:gd name="textAreaBottom" fmla="*/ 54000 h 53640"/>
                    </a:gdLst>
                    <a:ahLst/>
                    <a:rect l="textAreaLeft" t="textAreaTop" r="textAreaRight" b="textAreaBottom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>
                      <a:gd name="textAreaLeft" fmla="*/ 0 w 25200"/>
                      <a:gd name="textAreaRight" fmla="*/ 25560 w 25200"/>
                      <a:gd name="textAreaTop" fmla="*/ 0 h 31320"/>
                      <a:gd name="textAreaBottom" fmla="*/ 31680 h 31320"/>
                    </a:gdLst>
                    <a:ahLst/>
                    <a:rect l="textAreaLeft" t="textAreaTop" r="textAreaRight" b="textAreaBottom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>
                      <a:gd name="textAreaLeft" fmla="*/ 0 w 31680"/>
                      <a:gd name="textAreaRight" fmla="*/ 32040 w 3168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>
                      <a:gd name="textAreaLeft" fmla="*/ 0 w 41040"/>
                      <a:gd name="textAreaRight" fmla="*/ 41400 w 4104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>
                      <a:gd name="textAreaLeft" fmla="*/ 0 w 193680"/>
                      <a:gd name="textAreaRight" fmla="*/ 194040 w 193680"/>
                      <a:gd name="textAreaTop" fmla="*/ 0 h 96480"/>
                      <a:gd name="textAreaBottom" fmla="*/ 96840 h 96480"/>
                    </a:gdLst>
                    <a:ahLst/>
                    <a:rect l="textAreaLeft" t="textAreaTop" r="textAreaRight" b="textAreaBottom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>
                      <a:gd name="textAreaLeft" fmla="*/ 0 w 52560"/>
                      <a:gd name="textAreaRight" fmla="*/ 52920 w 5256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9000"/>
                      <a:gd name="textAreaBottom" fmla="*/ 9360 h 9000"/>
                    </a:gdLst>
                    <a:ahLst/>
                    <a:rect l="textAreaLeft" t="textAreaTop" r="textAreaRight" b="textAreaBottom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>
                      <a:gd name="textAreaLeft" fmla="*/ 0 w 17280"/>
                      <a:gd name="textAreaRight" fmla="*/ 17640 w 1728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>
                      <a:gd name="textAreaLeft" fmla="*/ 0 w 54000"/>
                      <a:gd name="textAreaRight" fmla="*/ 54360 w 54000"/>
                      <a:gd name="textAreaTop" fmla="*/ 0 h 42480"/>
                      <a:gd name="textAreaBottom" fmla="*/ 42840 h 42480"/>
                    </a:gdLst>
                    <a:ahLst/>
                    <a:rect l="textAreaLeft" t="textAreaTop" r="textAreaRight" b="textAreaBottom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91800"/>
                      <a:gd name="textAreaBottom" fmla="*/ 92160 h 91800"/>
                    </a:gdLst>
                    <a:ahLst/>
                    <a:rect l="textAreaLeft" t="textAreaTop" r="textAreaRight" b="textAreaBottom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>
                      <a:gd name="textAreaLeft" fmla="*/ 0 w 22320"/>
                      <a:gd name="textAreaRight" fmla="*/ 22680 w 2232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>
                      <a:gd name="textAreaLeft" fmla="*/ 0 w 29880"/>
                      <a:gd name="textAreaRight" fmla="*/ 30240 w 2988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>
                      <a:gd name="textAreaLeft" fmla="*/ 0 w 474840"/>
                      <a:gd name="textAreaRight" fmla="*/ 475200 w 474840"/>
                      <a:gd name="textAreaTop" fmla="*/ 0 h 284040"/>
                      <a:gd name="textAreaBottom" fmla="*/ 284400 h 284040"/>
                    </a:gdLst>
                    <a:ahLst/>
                    <a:rect l="textAreaLeft" t="textAreaTop" r="textAreaRight" b="textAreaBottom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>
                      <a:gd name="textAreaLeft" fmla="*/ 0 w 666720"/>
                      <a:gd name="textAreaRight" fmla="*/ 667080 w 666720"/>
                      <a:gd name="textAreaTop" fmla="*/ 0 h 448920"/>
                      <a:gd name="textAreaBottom" fmla="*/ 449280 h 448920"/>
                    </a:gdLst>
                    <a:ahLst/>
                    <a:rect l="textAreaLeft" t="textAreaTop" r="textAreaRight" b="textAreaBottom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>
                      <a:gd name="textAreaLeft" fmla="*/ 0 w 24120"/>
                      <a:gd name="textAreaRight" fmla="*/ 24480 w 24120"/>
                      <a:gd name="textAreaTop" fmla="*/ 0 h 25200"/>
                      <a:gd name="textAreaBottom" fmla="*/ 25560 h 25200"/>
                    </a:gdLst>
                    <a:ahLst/>
                    <a:rect l="textAreaLeft" t="textAreaTop" r="textAreaRight" b="textAreaBottom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>
                      <a:gd name="textAreaLeft" fmla="*/ 0 w 25560"/>
                      <a:gd name="textAreaRight" fmla="*/ 25920 w 25560"/>
                      <a:gd name="textAreaTop" fmla="*/ 0 h 18720"/>
                      <a:gd name="textAreaBottom" fmla="*/ 19080 h 18720"/>
                    </a:gdLst>
                    <a:ahLst/>
                    <a:rect l="textAreaLeft" t="textAreaTop" r="textAreaRight" b="textAreaBottom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>
                      <a:gd name="textAreaLeft" fmla="*/ 0 w 115920"/>
                      <a:gd name="textAreaRight" fmla="*/ 116280 w 115920"/>
                      <a:gd name="textAreaTop" fmla="*/ 0 h 52200"/>
                      <a:gd name="textAreaBottom" fmla="*/ 52560 h 52200"/>
                    </a:gdLst>
                    <a:ahLst/>
                    <a:rect l="textAreaLeft" t="textAreaTop" r="textAreaRight" b="textAreaBottom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>
                      <a:gd name="textAreaLeft" fmla="*/ 0 w 93600"/>
                      <a:gd name="textAreaRight" fmla="*/ 93960 w 93600"/>
                      <a:gd name="textAreaTop" fmla="*/ 0 h 23760"/>
                      <a:gd name="textAreaBottom" fmla="*/ 24120 h 23760"/>
                    </a:gdLst>
                    <a:ahLst/>
                    <a:rect l="textAreaLeft" t="textAreaTop" r="textAreaRight" b="textAreaBottom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>
                      <a:gd name="textAreaLeft" fmla="*/ 0 w 38160"/>
                      <a:gd name="textAreaRight" fmla="*/ 38520 w 38160"/>
                      <a:gd name="textAreaTop" fmla="*/ 0 h 21600"/>
                      <a:gd name="textAreaBottom" fmla="*/ 21960 h 21600"/>
                    </a:gdLst>
                    <a:ahLst/>
                    <a:rect l="textAreaLeft" t="textAreaTop" r="textAreaRight" b="textAreaBottom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>
                      <a:gd name="textAreaLeft" fmla="*/ 0 w 25560"/>
                      <a:gd name="textAreaRight" fmla="*/ 25920 w 25560"/>
                      <a:gd name="textAreaTop" fmla="*/ 0 h 28080"/>
                      <a:gd name="textAreaBottom" fmla="*/ 28440 h 28080"/>
                    </a:gdLst>
                    <a:ahLst/>
                    <a:rect l="textAreaLeft" t="textAreaTop" r="textAreaRight" b="textAreaBottom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>
                      <a:gd name="textAreaLeft" fmla="*/ 0 w 29880"/>
                      <a:gd name="textAreaRight" fmla="*/ 30240 w 29880"/>
                      <a:gd name="textAreaTop" fmla="*/ 0 h 42480"/>
                      <a:gd name="textAreaBottom" fmla="*/ 42840 h 42480"/>
                    </a:gdLst>
                    <a:ahLst/>
                    <a:rect l="textAreaLeft" t="textAreaTop" r="textAreaRight" b="textAreaBottom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>
                      <a:gd name="textAreaLeft" fmla="*/ 0 w 325440"/>
                      <a:gd name="textAreaRight" fmla="*/ 325800 w 325440"/>
                      <a:gd name="textAreaTop" fmla="*/ 0 h 64800"/>
                      <a:gd name="textAreaBottom" fmla="*/ 65160 h 64800"/>
                    </a:gdLst>
                    <a:ahLst/>
                    <a:rect l="textAreaLeft" t="textAreaTop" r="textAreaRight" b="textAreaBottom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>
                      <a:gd name="textAreaLeft" fmla="*/ 0 w 301680"/>
                      <a:gd name="textAreaRight" fmla="*/ 302040 w 301680"/>
                      <a:gd name="textAreaTop" fmla="*/ 0 h 31320"/>
                      <a:gd name="textAreaBottom" fmla="*/ 31680 h 31320"/>
                    </a:gdLst>
                    <a:ahLst/>
                    <a:rect l="textAreaLeft" t="textAreaTop" r="textAreaRight" b="textAreaBottom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>
                      <a:gd name="textAreaLeft" fmla="*/ 0 w 692280"/>
                      <a:gd name="textAreaRight" fmla="*/ 692640 w 692280"/>
                      <a:gd name="textAreaTop" fmla="*/ 0 h 240840"/>
                      <a:gd name="textAreaBottom" fmla="*/ 241200 h 240840"/>
                    </a:gdLst>
                    <a:ahLst/>
                    <a:rect l="textAreaLeft" t="textAreaTop" r="textAreaRight" b="textAreaBottom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>
                      <a:gd name="textAreaLeft" fmla="*/ 0 w 31680"/>
                      <a:gd name="textAreaRight" fmla="*/ 32040 w 31680"/>
                      <a:gd name="textAreaTop" fmla="*/ 0 h 86760"/>
                      <a:gd name="textAreaBottom" fmla="*/ 86760 h 86760"/>
                    </a:gdLst>
                    <a:ahLst/>
                    <a:rect l="textAreaLeft" t="textAreaTop" r="textAreaRight" b="textAreaBottom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>
                      <a:gd name="textAreaLeft" fmla="*/ 0 w 93600"/>
                      <a:gd name="textAreaRight" fmla="*/ 93960 w 93600"/>
                      <a:gd name="textAreaTop" fmla="*/ 0 h 53640"/>
                      <a:gd name="textAreaBottom" fmla="*/ 54000 h 53640"/>
                    </a:gdLst>
                    <a:ahLst/>
                    <a:rect l="textAreaLeft" t="textAreaTop" r="textAreaRight" b="textAreaBottom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>
                      <a:gd name="textAreaLeft" fmla="*/ 0 w 127080"/>
                      <a:gd name="textAreaRight" fmla="*/ 127440 w 127080"/>
                      <a:gd name="textAreaTop" fmla="*/ 0 h 113760"/>
                      <a:gd name="textAreaBottom" fmla="*/ 114120 h 113760"/>
                    </a:gdLst>
                    <a:ahLst/>
                    <a:rect l="textAreaLeft" t="textAreaTop" r="textAreaRight" b="textAreaBottom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>
                      <a:gd name="textAreaLeft" fmla="*/ 0 w 9720"/>
                      <a:gd name="textAreaRight" fmla="*/ 10080 w 9720"/>
                      <a:gd name="textAreaTop" fmla="*/ 0 h 6120"/>
                      <a:gd name="textAreaBottom" fmla="*/ 6480 h 6120"/>
                    </a:gdLst>
                    <a:ahLst/>
                    <a:rect l="textAreaLeft" t="textAreaTop" r="textAreaRight" b="textAreaBottom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>
                      <a:gd name="textAreaLeft" fmla="*/ 0 w 551160"/>
                      <a:gd name="textAreaRight" fmla="*/ 551520 w 551160"/>
                      <a:gd name="textAreaTop" fmla="*/ 0 h 299880"/>
                      <a:gd name="textAreaBottom" fmla="*/ 300240 h 299880"/>
                    </a:gdLst>
                    <a:ahLst/>
                    <a:rect l="textAreaLeft" t="textAreaTop" r="textAreaRight" b="textAreaBottom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45720"/>
                      <a:gd name="textAreaBottom" fmla="*/ 46080 h 45720"/>
                    </a:gdLst>
                    <a:ahLst/>
                    <a:rect l="textAreaLeft" t="textAreaTop" r="textAreaRight" b="textAreaBottom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>
                      <a:gd name="textAreaLeft" fmla="*/ 0 w 28800"/>
                      <a:gd name="textAreaRight" fmla="*/ 29160 w 28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>
                      <a:gd name="textAreaLeft" fmla="*/ 0 w 687600"/>
                      <a:gd name="textAreaRight" fmla="*/ 687960 w 687600"/>
                      <a:gd name="textAreaTop" fmla="*/ 0 h 561600"/>
                      <a:gd name="textAreaBottom" fmla="*/ 561960 h 561600"/>
                    </a:gdLst>
                    <a:ahLst/>
                    <a:rect l="textAreaLeft" t="textAreaTop" r="textAreaRight" b="textAreaBottom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>
                      <a:gd name="textAreaLeft" fmla="*/ 0 w 258840"/>
                      <a:gd name="textAreaRight" fmla="*/ 259200 w 258840"/>
                      <a:gd name="textAreaTop" fmla="*/ 0 h 350640"/>
                      <a:gd name="textAreaBottom" fmla="*/ 351000 h 350640"/>
                    </a:gdLst>
                    <a:ahLst/>
                    <a:rect l="textAreaLeft" t="textAreaTop" r="textAreaRight" b="textAreaBottom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>
                      <a:gd name="textAreaLeft" fmla="*/ 0 w 11160"/>
                      <a:gd name="textAreaRight" fmla="*/ 11520 w 11160"/>
                      <a:gd name="textAreaTop" fmla="*/ 0 h 18720"/>
                      <a:gd name="textAreaBottom" fmla="*/ 19080 h 18720"/>
                    </a:gdLst>
                    <a:ahLst/>
                    <a:rect l="textAreaLeft" t="textAreaTop" r="textAreaRight" b="textAreaBottom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10800"/>
                      <a:gd name="textAreaBottom" fmla="*/ 11160 h 10800"/>
                    </a:gdLst>
                    <a:ahLst/>
                    <a:rect l="textAreaLeft" t="textAreaTop" r="textAreaRight" b="textAreaBottom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>
                      <a:gd name="textAreaLeft" fmla="*/ 0 w 39600"/>
                      <a:gd name="textAreaRight" fmla="*/ 39960 w 3960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>
                      <a:gd name="textAreaLeft" fmla="*/ 0 w 468360"/>
                      <a:gd name="textAreaRight" fmla="*/ 468720 w 468360"/>
                      <a:gd name="textAreaTop" fmla="*/ 0 h 369360"/>
                      <a:gd name="textAreaBottom" fmla="*/ 369720 h 369360"/>
                    </a:gdLst>
                    <a:ahLst/>
                    <a:rect l="textAreaLeft" t="textAreaTop" r="textAreaRight" b="textAreaBottom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>
                      <a:gd name="textAreaLeft" fmla="*/ 0 w 938160"/>
                      <a:gd name="textAreaRight" fmla="*/ 938520 w 938160"/>
                      <a:gd name="textAreaTop" fmla="*/ 0 h 150480"/>
                      <a:gd name="textAreaBottom" fmla="*/ 150840 h 150480"/>
                    </a:gdLst>
                    <a:ahLst/>
                    <a:rect l="textAreaLeft" t="textAreaTop" r="textAreaRight" b="textAreaBottom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>
                      <a:gd name="textAreaLeft" fmla="*/ 0 w 29880"/>
                      <a:gd name="textAreaRight" fmla="*/ 30240 w 2988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>
                      <a:gd name="textAreaLeft" fmla="*/ 0 w 50760"/>
                      <a:gd name="textAreaRight" fmla="*/ 51120 w 50760"/>
                      <a:gd name="textAreaTop" fmla="*/ 0 h 9360"/>
                      <a:gd name="textAreaBottom" fmla="*/ 9720 h 9360"/>
                    </a:gdLst>
                    <a:ahLst/>
                    <a:rect l="textAreaLeft" t="textAreaTop" r="textAreaRight" b="textAreaBottom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23400"/>
                      <a:gd name="textAreaBottom" fmla="*/ 23760 h 23400"/>
                    </a:gdLst>
                    <a:ahLst/>
                    <a:rect l="textAreaLeft" t="textAreaTop" r="textAreaRight" b="textAreaBottom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>
                      <a:gd name="textAreaLeft" fmla="*/ 0 w 22320"/>
                      <a:gd name="textAreaRight" fmla="*/ 22680 w 2232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21960"/>
                      <a:gd name="textAreaBottom" fmla="*/ 22320 h 21960"/>
                    </a:gdLst>
                    <a:ahLst/>
                    <a:rect l="textAreaLeft" t="textAreaTop" r="textAreaRight" b="textAreaBottom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>
                      <a:gd name="textAreaLeft" fmla="*/ 0 w 17640"/>
                      <a:gd name="textAreaRight" fmla="*/ 18000 w 1764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>
                      <a:gd name="textAreaLeft" fmla="*/ 0 w 44640"/>
                      <a:gd name="textAreaRight" fmla="*/ 45000 w 44640"/>
                      <a:gd name="textAreaTop" fmla="*/ 0 h 25200"/>
                      <a:gd name="textAreaBottom" fmla="*/ 25560 h 25200"/>
                    </a:gdLst>
                    <a:ahLst/>
                    <a:rect l="textAreaLeft" t="textAreaTop" r="textAreaRight" b="textAreaBottom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24840"/>
                      <a:gd name="textAreaBottom" fmla="*/ 25200 h 24840"/>
                    </a:gdLst>
                    <a:ahLst/>
                    <a:rect l="textAreaLeft" t="textAreaTop" r="textAreaRight" b="textAreaBottom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>
                      <a:gd name="textAreaLeft" fmla="*/ 0 w 239760"/>
                      <a:gd name="textAreaRight" fmla="*/ 240120 w 239760"/>
                      <a:gd name="textAreaTop" fmla="*/ 0 h 147240"/>
                      <a:gd name="textAreaBottom" fmla="*/ 147600 h 147240"/>
                    </a:gdLst>
                    <a:ahLst/>
                    <a:rect l="textAreaLeft" t="textAreaTop" r="textAreaRight" b="textAreaBottom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>
                      <a:gd name="textAreaLeft" fmla="*/ 0 w 106200"/>
                      <a:gd name="textAreaRight" fmla="*/ 106560 w 106200"/>
                      <a:gd name="textAreaTop" fmla="*/ 0 h 107640"/>
                      <a:gd name="textAreaBottom" fmla="*/ 108000 h 107640"/>
                    </a:gdLst>
                    <a:ahLst/>
                    <a:rect l="textAreaLeft" t="textAreaTop" r="textAreaRight" b="textAreaBottom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>
                      <a:gd name="textAreaLeft" fmla="*/ 0 w 74520"/>
                      <a:gd name="textAreaRight" fmla="*/ 74880 w 74520"/>
                      <a:gd name="textAreaTop" fmla="*/ 0 h 20520"/>
                      <a:gd name="textAreaBottom" fmla="*/ 20880 h 20520"/>
                    </a:gdLst>
                    <a:ahLst/>
                    <a:rect l="textAreaLeft" t="textAreaTop" r="textAreaRight" b="textAreaBottom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>
                      <a:gd name="textAreaLeft" fmla="*/ 0 w 50760"/>
                      <a:gd name="textAreaRight" fmla="*/ 51120 w 50760"/>
                      <a:gd name="textAreaTop" fmla="*/ 0 h 53640"/>
                      <a:gd name="textAreaBottom" fmla="*/ 54000 h 53640"/>
                    </a:gdLst>
                    <a:ahLst/>
                    <a:rect l="textAreaLeft" t="textAreaTop" r="textAreaRight" b="textAreaBottom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>
                      <a:gd name="textAreaLeft" fmla="*/ 0 w 25200"/>
                      <a:gd name="textAreaRight" fmla="*/ 25560 w 25200"/>
                      <a:gd name="textAreaTop" fmla="*/ 0 h 31320"/>
                      <a:gd name="textAreaBottom" fmla="*/ 31680 h 31320"/>
                    </a:gdLst>
                    <a:ahLst/>
                    <a:rect l="textAreaLeft" t="textAreaTop" r="textAreaRight" b="textAreaBottom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>
                      <a:gd name="textAreaLeft" fmla="*/ 0 w 41400"/>
                      <a:gd name="textAreaRight" fmla="*/ 41760 w 4140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>
                      <a:gd name="textAreaLeft" fmla="*/ 0 w 193680"/>
                      <a:gd name="textAreaRight" fmla="*/ 194040 w 193680"/>
                      <a:gd name="textAreaTop" fmla="*/ 0 h 96480"/>
                      <a:gd name="textAreaBottom" fmla="*/ 96840 h 96480"/>
                    </a:gdLst>
                    <a:ahLst/>
                    <a:rect l="textAreaLeft" t="textAreaTop" r="textAreaRight" b="textAreaBottom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>
                      <a:gd name="textAreaLeft" fmla="*/ 0 w 52560"/>
                      <a:gd name="textAreaRight" fmla="*/ 52920 w 5256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9000"/>
                      <a:gd name="textAreaBottom" fmla="*/ 9360 h 9000"/>
                    </a:gdLst>
                    <a:ahLst/>
                    <a:rect l="textAreaLeft" t="textAreaTop" r="textAreaRight" b="textAreaBottom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>
                      <a:gd name="textAreaLeft" fmla="*/ 0 w 54000"/>
                      <a:gd name="textAreaRight" fmla="*/ 54360 w 54000"/>
                      <a:gd name="textAreaTop" fmla="*/ 0 h 42480"/>
                      <a:gd name="textAreaBottom" fmla="*/ 42840 h 42480"/>
                    </a:gdLst>
                    <a:ahLst/>
                    <a:rect l="textAreaLeft" t="textAreaTop" r="textAreaRight" b="textAreaBottom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>
                      <a:gd name="textAreaLeft" fmla="*/ 0 w 63720"/>
                      <a:gd name="textAreaRight" fmla="*/ 64080 w 63720"/>
                      <a:gd name="textAreaTop" fmla="*/ 0 h 91800"/>
                      <a:gd name="textAreaBottom" fmla="*/ 92160 h 91800"/>
                    </a:gdLst>
                    <a:ahLst/>
                    <a:rect l="textAreaLeft" t="textAreaTop" r="textAreaRight" b="textAreaBottom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>
                      <a:gd name="textAreaLeft" fmla="*/ 0 w 22320"/>
                      <a:gd name="textAreaRight" fmla="*/ 22680 w 2232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>
                      <a:gd name="textAreaLeft" fmla="*/ 0 w 695160"/>
                      <a:gd name="textAreaRight" fmla="*/ 695520 w 695160"/>
                      <a:gd name="textAreaTop" fmla="*/ 0 h 240840"/>
                      <a:gd name="textAreaBottom" fmla="*/ 241200 h 240840"/>
                    </a:gdLst>
                    <a:ahLst/>
                    <a:rect l="textAreaLeft" t="textAreaTop" r="textAreaRight" b="textAreaBottom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87120"/>
                      <a:gd name="textAreaBottom" fmla="*/ 87480 h 87120"/>
                    </a:gdLst>
                    <a:ahLst/>
                    <a:rect l="textAreaLeft" t="textAreaTop" r="textAreaRight" b="textAreaBottom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>
                      <a:gd name="textAreaLeft" fmla="*/ 0 w 93960"/>
                      <a:gd name="textAreaRight" fmla="*/ 94320 w 93960"/>
                      <a:gd name="textAreaTop" fmla="*/ 0 h 53640"/>
                      <a:gd name="textAreaBottom" fmla="*/ 54000 h 53640"/>
                    </a:gdLst>
                    <a:ahLst/>
                    <a:rect l="textAreaLeft" t="textAreaTop" r="textAreaRight" b="textAreaBottom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>
                      <a:gd name="textAreaLeft" fmla="*/ 0 w 126720"/>
                      <a:gd name="textAreaRight" fmla="*/ 127080 w 126720"/>
                      <a:gd name="textAreaTop" fmla="*/ 0 h 113760"/>
                      <a:gd name="textAreaBottom" fmla="*/ 114120 h 113760"/>
                    </a:gdLst>
                    <a:ahLst/>
                    <a:rect l="textAreaLeft" t="textAreaTop" r="textAreaRight" b="textAreaBottom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>
                      <a:gd name="textAreaLeft" fmla="*/ 0 w 9720"/>
                      <a:gd name="textAreaRight" fmla="*/ 10080 w 9720"/>
                      <a:gd name="textAreaTop" fmla="*/ 0 h 6120"/>
                      <a:gd name="textAreaBottom" fmla="*/ 6480 h 6120"/>
                    </a:gdLst>
                    <a:ahLst/>
                    <a:rect l="textAreaLeft" t="textAreaTop" r="textAreaRight" b="textAreaBottom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>
                      <a:gd name="textAreaLeft" fmla="*/ 0 w 550800"/>
                      <a:gd name="textAreaRight" fmla="*/ 551160 w 550800"/>
                      <a:gd name="textAreaTop" fmla="*/ 0 h 299880"/>
                      <a:gd name="textAreaBottom" fmla="*/ 300240 h 299880"/>
                    </a:gdLst>
                    <a:ahLst/>
                    <a:rect l="textAreaLeft" t="textAreaTop" r="textAreaRight" b="textAreaBottom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45720"/>
                      <a:gd name="textAreaBottom" fmla="*/ 46080 h 45720"/>
                    </a:gdLst>
                    <a:ahLst/>
                    <a:rect l="textAreaLeft" t="textAreaTop" r="textAreaRight" b="textAreaBottom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>
                      <a:gd name="textAreaLeft" fmla="*/ 0 w 14040"/>
                      <a:gd name="textAreaRight" fmla="*/ 14400 w 1404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>
                      <a:gd name="textAreaLeft" fmla="*/ 0 w 687240"/>
                      <a:gd name="textAreaRight" fmla="*/ 687600 w 687240"/>
                      <a:gd name="textAreaTop" fmla="*/ 0 h 561600"/>
                      <a:gd name="textAreaBottom" fmla="*/ 561960 h 561600"/>
                    </a:gdLst>
                    <a:ahLst/>
                    <a:rect l="textAreaLeft" t="textAreaTop" r="textAreaRight" b="textAreaBottom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>
                      <a:gd name="textAreaLeft" fmla="*/ 0 w 258840"/>
                      <a:gd name="textAreaRight" fmla="*/ 259200 w 258840"/>
                      <a:gd name="textAreaTop" fmla="*/ 0 h 350280"/>
                      <a:gd name="textAreaBottom" fmla="*/ 350640 h 350280"/>
                    </a:gdLst>
                    <a:ahLst/>
                    <a:rect l="textAreaLeft" t="textAreaTop" r="textAreaRight" b="textAreaBottom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>
                      <a:gd name="textAreaLeft" fmla="*/ 0 w 11160"/>
                      <a:gd name="textAreaRight" fmla="*/ 11520 w 11160"/>
                      <a:gd name="textAreaTop" fmla="*/ 0 h 18720"/>
                      <a:gd name="textAreaBottom" fmla="*/ 19080 h 18720"/>
                    </a:gdLst>
                    <a:ahLst/>
                    <a:rect l="textAreaLeft" t="textAreaTop" r="textAreaRight" b="textAreaBottom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10800"/>
                      <a:gd name="textAreaBottom" fmla="*/ 11160 h 10800"/>
                    </a:gdLst>
                    <a:ahLst/>
                    <a:rect l="textAreaLeft" t="textAreaTop" r="textAreaRight" b="textAreaBottom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>
                      <a:gd name="textAreaLeft" fmla="*/ 0 w 39600"/>
                      <a:gd name="textAreaRight" fmla="*/ 39960 w 3960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>
                      <a:gd name="textAreaLeft" fmla="*/ 0 w 468360"/>
                      <a:gd name="textAreaRight" fmla="*/ 468720 w 468360"/>
                      <a:gd name="textAreaTop" fmla="*/ 0 h 369360"/>
                      <a:gd name="textAreaBottom" fmla="*/ 369720 h 369360"/>
                    </a:gdLst>
                    <a:ahLst/>
                    <a:rect l="textAreaLeft" t="textAreaTop" r="textAreaRight" b="textAreaBottom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>
                      <a:gd name="textAreaLeft" fmla="*/ 0 w 938160"/>
                      <a:gd name="textAreaRight" fmla="*/ 938520 w 938160"/>
                      <a:gd name="textAreaTop" fmla="*/ 0 h 150480"/>
                      <a:gd name="textAreaBottom" fmla="*/ 150840 h 150480"/>
                    </a:gdLst>
                    <a:ahLst/>
                    <a:rect l="textAreaLeft" t="textAreaTop" r="textAreaRight" b="textAreaBottom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>
                      <a:gd name="textAreaLeft" fmla="*/ 0 w 50760"/>
                      <a:gd name="textAreaRight" fmla="*/ 51120 w 50760"/>
                      <a:gd name="textAreaTop" fmla="*/ 0 h 9360"/>
                      <a:gd name="textAreaBottom" fmla="*/ 9720 h 9360"/>
                    </a:gdLst>
                    <a:ahLst/>
                    <a:rect l="textAreaLeft" t="textAreaTop" r="textAreaRight" b="textAreaBottom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23400"/>
                      <a:gd name="textAreaBottom" fmla="*/ 23760 h 23400"/>
                    </a:gdLst>
                    <a:ahLst/>
                    <a:rect l="textAreaLeft" t="textAreaTop" r="textAreaRight" b="textAreaBottom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>
                      <a:gd name="textAreaLeft" fmla="*/ 0 w 21960"/>
                      <a:gd name="textAreaRight" fmla="*/ 22320 w 2196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195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6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197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custGeom>
                <a:avLst/>
                <a:gdLst>
                  <a:gd name="textAreaLeft" fmla="*/ 0 w 7501320"/>
                  <a:gd name="textAreaRight" fmla="*/ 7501680 w 7501320"/>
                  <a:gd name="textAreaTop" fmla="*/ 0 h 1584720"/>
                  <a:gd name="textAreaBottom" fmla="*/ 1585080 h 1584720"/>
                </a:gdLst>
                <a:ahLst/>
                <a:rect l="textAreaLeft" t="textAreaTop" r="textAreaRight" b="textAreaBottom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98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199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custGeom>
                  <a:avLst/>
                  <a:gdLst>
                    <a:gd name="textAreaLeft" fmla="*/ 0 w 21960"/>
                    <a:gd name="textAreaRight" fmla="*/ 22320 w 21960"/>
                    <a:gd name="textAreaTop" fmla="*/ 0 h 30600"/>
                    <a:gd name="textAreaBottom" fmla="*/ 30960 h 30600"/>
                  </a:gdLst>
                  <a:ahLst/>
                  <a:rect l="textAreaLeft" t="textAreaTop" r="textAreaRight" b="textAreaBottom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0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30600"/>
                    <a:gd name="textAreaBottom" fmla="*/ 30960 h 30600"/>
                  </a:gdLst>
                  <a:ahLst/>
                  <a:rect l="textAreaLeft" t="textAreaTop" r="textAreaRight" b="textAreaBottom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1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custGeom>
                  <a:avLst/>
                  <a:gdLst>
                    <a:gd name="textAreaLeft" fmla="*/ 0 w 40320"/>
                    <a:gd name="textAreaRight" fmla="*/ 40680 w 4032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custGeom>
                  <a:avLst/>
                  <a:gdLst>
                    <a:gd name="textAreaLeft" fmla="*/ 0 w 32400"/>
                    <a:gd name="textAreaRight" fmla="*/ 32760 w 32400"/>
                    <a:gd name="textAreaTop" fmla="*/ 0 h 18360"/>
                    <a:gd name="textAreaBottom" fmla="*/ 18720 h 18360"/>
                  </a:gdLst>
                  <a:ahLst/>
                  <a:rect l="textAreaLeft" t="textAreaTop" r="textAreaRight" b="textAreaBottom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3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4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custGeom>
                  <a:avLst/>
                  <a:gdLst>
                    <a:gd name="textAreaLeft" fmla="*/ 0 w 88560"/>
                    <a:gd name="textAreaRight" fmla="*/ 88920 w 8856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5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custGeom>
                  <a:avLst/>
                  <a:gdLst>
                    <a:gd name="textAreaLeft" fmla="*/ 0 w 460800"/>
                    <a:gd name="textAreaRight" fmla="*/ 461160 w 460800"/>
                    <a:gd name="textAreaTop" fmla="*/ 0 h 349920"/>
                    <a:gd name="textAreaBottom" fmla="*/ 350280 h 349920"/>
                  </a:gdLst>
                  <a:ahLst/>
                  <a:rect l="textAreaLeft" t="textAreaTop" r="textAreaRight" b="textAreaBottom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6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custGeom>
                  <a:avLst/>
                  <a:gdLst>
                    <a:gd name="textAreaLeft" fmla="*/ 0 w 204480"/>
                    <a:gd name="textAreaRight" fmla="*/ 204840 w 204480"/>
                    <a:gd name="textAreaTop" fmla="*/ 0 h 256320"/>
                    <a:gd name="textAreaBottom" fmla="*/ 256680 h 256320"/>
                  </a:gdLst>
                  <a:ahLst/>
                  <a:rect l="textAreaLeft" t="textAreaTop" r="textAreaRight" b="textAreaBottom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7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custGeom>
                  <a:avLst/>
                  <a:gdLst>
                    <a:gd name="textAreaLeft" fmla="*/ 0 w 142920"/>
                    <a:gd name="textAreaRight" fmla="*/ 143280 w 14292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8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custGeom>
                  <a:avLst/>
                  <a:gdLst>
                    <a:gd name="textAreaLeft" fmla="*/ 0 w 97560"/>
                    <a:gd name="textAreaRight" fmla="*/ 97920 w 97560"/>
                    <a:gd name="textAreaTop" fmla="*/ 0 h 128520"/>
                    <a:gd name="textAreaBottom" fmla="*/ 128880 h 128520"/>
                  </a:gdLst>
                  <a:ahLst/>
                  <a:rect l="textAreaLeft" t="textAreaTop" r="textAreaRight" b="textAreaBottom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9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0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custGeom>
                  <a:avLst/>
                  <a:gdLst>
                    <a:gd name="textAreaLeft" fmla="*/ 0 w 60840"/>
                    <a:gd name="textAreaRight" fmla="*/ 61200 w 608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1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custGeom>
                  <a:avLst/>
                  <a:gdLst>
                    <a:gd name="textAreaLeft" fmla="*/ 0 w 79200"/>
                    <a:gd name="textAreaRight" fmla="*/ 79560 w 79200"/>
                    <a:gd name="textAreaTop" fmla="*/ 0 h 64080"/>
                    <a:gd name="textAreaBottom" fmla="*/ 64440 h 64080"/>
                  </a:gdLst>
                  <a:ahLst/>
                  <a:rect l="textAreaLeft" t="textAreaTop" r="textAreaRight" b="textAreaBottom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2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custGeom>
                  <a:avLst/>
                  <a:gdLst>
                    <a:gd name="textAreaLeft" fmla="*/ 0 w 372240"/>
                    <a:gd name="textAreaRight" fmla="*/ 372600 w 3722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3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custGeom>
                  <a:avLst/>
                  <a:gdLst>
                    <a:gd name="textAreaLeft" fmla="*/ 0 w 101520"/>
                    <a:gd name="textAreaRight" fmla="*/ 101880 w 10152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4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custGeom>
                  <a:avLst/>
                  <a:gdLst>
                    <a:gd name="textAreaLeft" fmla="*/ 0 w 24480"/>
                    <a:gd name="textAreaRight" fmla="*/ 24840 w 24480"/>
                    <a:gd name="textAreaTop" fmla="*/ 0 h 21240"/>
                    <a:gd name="textAreaBottom" fmla="*/ 21600 h 21240"/>
                  </a:gdLst>
                  <a:ahLst/>
                  <a:rect l="textAreaLeft" t="textAreaTop" r="textAreaRight" b="textAreaBottom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5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6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custGeom>
                  <a:avLst/>
                  <a:gdLst>
                    <a:gd name="textAreaLeft" fmla="*/ 0 w 24480"/>
                    <a:gd name="textAreaRight" fmla="*/ 24840 w 24480"/>
                    <a:gd name="textAreaTop" fmla="*/ 0 h 18360"/>
                    <a:gd name="textAreaBottom" fmla="*/ 18720 h 18360"/>
                  </a:gdLst>
                  <a:ahLst/>
                  <a:rect l="textAreaLeft" t="textAreaTop" r="textAreaRight" b="textAreaBottom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7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custGeom>
                  <a:avLst/>
                  <a:gdLst>
                    <a:gd name="textAreaLeft" fmla="*/ 0 w 24480"/>
                    <a:gd name="textAreaRight" fmla="*/ 24840 w 24480"/>
                    <a:gd name="textAreaTop" fmla="*/ 0 h 18360"/>
                    <a:gd name="textAreaBottom" fmla="*/ 18720 h 18360"/>
                  </a:gdLst>
                  <a:ahLst/>
                  <a:rect l="textAreaLeft" t="textAreaTop" r="textAreaRight" b="textAreaBottom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8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custGeom>
                  <a:avLst/>
                  <a:gdLst>
                    <a:gd name="textAreaLeft" fmla="*/ 0 w 104040"/>
                    <a:gd name="textAreaRight" fmla="*/ 104400 w 104040"/>
                    <a:gd name="textAreaTop" fmla="*/ 0 h 101160"/>
                    <a:gd name="textAreaBottom" fmla="*/ 101520 h 101160"/>
                  </a:gdLst>
                  <a:ahLst/>
                  <a:rect l="textAreaLeft" t="textAreaTop" r="textAreaRight" b="textAreaBottom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9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custGeom>
                  <a:avLst/>
                  <a:gdLst>
                    <a:gd name="textAreaLeft" fmla="*/ 0 w 122040"/>
                    <a:gd name="textAreaRight" fmla="*/ 122400 w 122040"/>
                    <a:gd name="textAreaTop" fmla="*/ 0 h 217800"/>
                    <a:gd name="textAreaBottom" fmla="*/ 218160 h 217800"/>
                  </a:gdLst>
                  <a:ahLst/>
                  <a:rect l="textAreaLeft" t="textAreaTop" r="textAreaRight" b="textAreaBottom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0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custGeom>
                  <a:avLst/>
                  <a:gdLst>
                    <a:gd name="textAreaLeft" fmla="*/ 0 w 41760"/>
                    <a:gd name="textAreaRight" fmla="*/ 42120 w 417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1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custGeom>
                  <a:avLst/>
                  <a:gdLst>
                    <a:gd name="textAreaLeft" fmla="*/ 0 w 58680"/>
                    <a:gd name="textAreaRight" fmla="*/ 59040 w 5868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2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custGeom>
                  <a:avLst/>
                  <a:gdLst>
                    <a:gd name="textAreaLeft" fmla="*/ 0 w 912600"/>
                    <a:gd name="textAreaRight" fmla="*/ 912960 w 912600"/>
                    <a:gd name="textAreaTop" fmla="*/ 0 h 672480"/>
                    <a:gd name="textAreaBottom" fmla="*/ 672840 h 672480"/>
                  </a:gdLst>
                  <a:ahLst/>
                  <a:rect l="textAreaLeft" t="textAreaTop" r="textAreaRight" b="textAreaBottom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3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custGeom>
                  <a:avLst/>
                  <a:gdLst>
                    <a:gd name="textAreaLeft" fmla="*/ 0 w 1281240"/>
                    <a:gd name="textAreaRight" fmla="*/ 1281600 w 1281240"/>
                    <a:gd name="textAreaTop" fmla="*/ 0 h 1062720"/>
                    <a:gd name="textAreaBottom" fmla="*/ 1063080 h 1062720"/>
                  </a:gdLst>
                  <a:ahLst/>
                  <a:rect l="textAreaLeft" t="textAreaTop" r="textAreaRight" b="textAreaBottom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4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custGeom>
                  <a:avLst/>
                  <a:gdLst>
                    <a:gd name="textAreaLeft" fmla="*/ 0 w 46440"/>
                    <a:gd name="textAreaRight" fmla="*/ 46800 w 4644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5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custGeom>
                  <a:avLst/>
                  <a:gdLst>
                    <a:gd name="textAreaLeft" fmla="*/ 0 w 49320"/>
                    <a:gd name="textAreaRight" fmla="*/ 49680 w 4932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6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custGeom>
                  <a:avLst/>
                  <a:gdLst>
                    <a:gd name="textAreaLeft" fmla="*/ 0 w 222480"/>
                    <a:gd name="textAreaRight" fmla="*/ 222840 w 222480"/>
                    <a:gd name="textAreaTop" fmla="*/ 0 h 124560"/>
                    <a:gd name="textAreaBottom" fmla="*/ 124920 h 124560"/>
                  </a:gdLst>
                  <a:ahLst/>
                  <a:rect l="textAreaLeft" t="textAreaTop" r="textAreaRight" b="textAreaBottom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7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custGeom>
                  <a:avLst/>
                  <a:gdLst>
                    <a:gd name="textAreaLeft" fmla="*/ 0 w 179640"/>
                    <a:gd name="textAreaRight" fmla="*/ 180000 w 179640"/>
                    <a:gd name="textAreaTop" fmla="*/ 0 h 56880"/>
                    <a:gd name="textAreaBottom" fmla="*/ 57240 h 56880"/>
                  </a:gdLst>
                  <a:ahLst/>
                  <a:rect l="textAreaLeft" t="textAreaTop" r="textAreaRight" b="textAreaBottom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8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custGeom>
                  <a:avLst/>
                  <a:gdLst>
                    <a:gd name="textAreaLeft" fmla="*/ 0 w 72720"/>
                    <a:gd name="textAreaRight" fmla="*/ 73080 w 7272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9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67320"/>
                    <a:gd name="textAreaBottom" fmla="*/ 67680 h 67320"/>
                  </a:gdLst>
                  <a:ahLst/>
                  <a:rect l="textAreaLeft" t="textAreaTop" r="textAreaRight" b="textAreaBottom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0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custGeom>
                  <a:avLst/>
                  <a:gdLst>
                    <a:gd name="textAreaLeft" fmla="*/ 0 w 58320"/>
                    <a:gd name="textAreaRight" fmla="*/ 58680 w 58320"/>
                    <a:gd name="textAreaTop" fmla="*/ 0 h 101160"/>
                    <a:gd name="textAreaBottom" fmla="*/ 101520 h 101160"/>
                  </a:gdLst>
                  <a:ahLst/>
                  <a:rect l="textAreaLeft" t="textAreaTop" r="textAreaRight" b="textAreaBottom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1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custGeom>
                  <a:avLst/>
                  <a:gdLst>
                    <a:gd name="textAreaLeft" fmla="*/ 0 w 624960"/>
                    <a:gd name="textAreaRight" fmla="*/ 625320 w 624960"/>
                    <a:gd name="textAreaTop" fmla="*/ 0 h 153360"/>
                    <a:gd name="textAreaBottom" fmla="*/ 153720 h 153360"/>
                  </a:gdLst>
                  <a:ahLst/>
                  <a:rect l="textAreaLeft" t="textAreaTop" r="textAreaRight" b="textAreaBottom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2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custGeom>
                  <a:avLst/>
                  <a:gdLst>
                    <a:gd name="textAreaLeft" fmla="*/ 0 w 580680"/>
                    <a:gd name="textAreaRight" fmla="*/ 581040 w 5806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custGeom>
                  <a:avLst/>
                  <a:gdLst>
                    <a:gd name="textAreaLeft" fmla="*/ 0 w 54360"/>
                    <a:gd name="textAreaRight" fmla="*/ 54720 w 54360"/>
                    <a:gd name="textAreaTop" fmla="*/ 0 h 38520"/>
                    <a:gd name="textAreaBottom" fmla="*/ 38880 h 38520"/>
                  </a:gdLst>
                  <a:ahLst/>
                  <a:rect l="textAreaLeft" t="textAreaTop" r="textAreaRight" b="textAreaBottom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4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custGeom>
                  <a:avLst/>
                  <a:gdLst>
                    <a:gd name="textAreaLeft" fmla="*/ 0 w 1330920"/>
                    <a:gd name="textAreaRight" fmla="*/ 1331280 w 1330920"/>
                    <a:gd name="textAreaTop" fmla="*/ 0 h 571320"/>
                    <a:gd name="textAreaBottom" fmla="*/ 571680 h 571320"/>
                  </a:gdLst>
                  <a:ahLst/>
                  <a:rect l="textAreaLeft" t="textAreaTop" r="textAreaRight" b="textAreaBottom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5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custGeom>
                  <a:avLst/>
                  <a:gdLst>
                    <a:gd name="textAreaLeft" fmla="*/ 0 w 60840"/>
                    <a:gd name="textAreaRight" fmla="*/ 61200 w 60840"/>
                    <a:gd name="textAreaTop" fmla="*/ 0 h 205560"/>
                    <a:gd name="textAreaBottom" fmla="*/ 205920 h 205560"/>
                  </a:gdLst>
                  <a:ahLst/>
                  <a:rect l="textAreaLeft" t="textAreaTop" r="textAreaRight" b="textAreaBottom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6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custGeom>
                  <a:avLst/>
                  <a:gdLst>
                    <a:gd name="textAreaLeft" fmla="*/ 0 w 179280"/>
                    <a:gd name="textAreaRight" fmla="*/ 179640 w 179280"/>
                    <a:gd name="textAreaTop" fmla="*/ 0 h 128880"/>
                    <a:gd name="textAreaBottom" fmla="*/ 129240 h 128880"/>
                  </a:gdLst>
                  <a:ahLst/>
                  <a:rect l="textAreaLeft" t="textAreaTop" r="textAreaRight" b="textAreaBottom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7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custGeom>
                  <a:avLst/>
                  <a:gdLst>
                    <a:gd name="textAreaLeft" fmla="*/ 0 w 243360"/>
                    <a:gd name="textAreaRight" fmla="*/ 243720 w 243360"/>
                    <a:gd name="textAreaTop" fmla="*/ 0 h 270000"/>
                    <a:gd name="textAreaBottom" fmla="*/ 270360 h 270000"/>
                  </a:gdLst>
                  <a:ahLst/>
                  <a:rect l="textAreaLeft" t="textAreaTop" r="textAreaRight" b="textAreaBottom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8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15480"/>
                    <a:gd name="textAreaBottom" fmla="*/ 15840 h 15480"/>
                  </a:gdLst>
                  <a:ahLst/>
                  <a:rect l="textAreaLeft" t="textAreaTop" r="textAreaRight" b="textAreaBottom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custGeom>
                  <a:avLst/>
                  <a:gdLst>
                    <a:gd name="textAreaLeft" fmla="*/ 0 w 1058760"/>
                    <a:gd name="textAreaRight" fmla="*/ 1059120 w 1058760"/>
                    <a:gd name="textAreaTop" fmla="*/ 0 h 709200"/>
                    <a:gd name="textAreaBottom" fmla="*/ 709560 h 709200"/>
                  </a:gdLst>
                  <a:ahLst/>
                  <a:rect l="textAreaLeft" t="textAreaTop" r="textAreaRight" b="textAreaBottom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0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custGeom>
                  <a:avLst/>
                  <a:gdLst>
                    <a:gd name="textAreaLeft" fmla="*/ 0 w 58680"/>
                    <a:gd name="textAreaRight" fmla="*/ 59040 w 58680"/>
                    <a:gd name="textAreaTop" fmla="*/ 0 h 108720"/>
                    <a:gd name="textAreaBottom" fmla="*/ 109080 h 108720"/>
                  </a:gdLst>
                  <a:ahLst/>
                  <a:rect l="textAreaLeft" t="textAreaTop" r="textAreaRight" b="textAreaBottom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custGeom>
                  <a:avLst/>
                  <a:gdLst>
                    <a:gd name="textAreaLeft" fmla="*/ 0 w 54360"/>
                    <a:gd name="textAreaRight" fmla="*/ 54720 w 54360"/>
                    <a:gd name="textAreaTop" fmla="*/ 0 h 90360"/>
                    <a:gd name="textAreaBottom" fmla="*/ 90720 h 90360"/>
                  </a:gdLst>
                  <a:ahLst/>
                  <a:rect l="textAreaLeft" t="textAreaTop" r="textAreaRight" b="textAreaBottom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2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3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custGeom>
                  <a:avLst/>
                  <a:gdLst>
                    <a:gd name="textAreaLeft" fmla="*/ 0 w 1321920"/>
                    <a:gd name="textAreaRight" fmla="*/ 1322280 w 1321920"/>
                    <a:gd name="textAreaTop" fmla="*/ 0 h 1329840"/>
                    <a:gd name="textAreaBottom" fmla="*/ 1330200 h 1329840"/>
                  </a:gdLst>
                  <a:ahLst/>
                  <a:rect l="textAreaLeft" t="textAreaTop" r="textAreaRight" b="textAreaBottom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4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custGeom>
                  <a:avLst/>
                  <a:gdLst>
                    <a:gd name="textAreaLeft" fmla="*/ 0 w 497160"/>
                    <a:gd name="textAreaRight" fmla="*/ 497520 w 497160"/>
                    <a:gd name="textAreaTop" fmla="*/ 0 h 829080"/>
                    <a:gd name="textAreaBottom" fmla="*/ 829440 h 829080"/>
                  </a:gdLst>
                  <a:ahLst/>
                  <a:rect l="textAreaLeft" t="textAreaTop" r="textAreaRight" b="textAreaBottom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5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6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custGeom>
                  <a:avLst/>
                  <a:gdLst>
                    <a:gd name="textAreaLeft" fmla="*/ 0 w 27360"/>
                    <a:gd name="textAreaRight" fmla="*/ 27720 w 27360"/>
                    <a:gd name="textAreaTop" fmla="*/ 0 h 25920"/>
                    <a:gd name="textAreaBottom" fmla="*/ 26280 h 25920"/>
                  </a:gdLst>
                  <a:ahLst/>
                  <a:rect l="textAreaLeft" t="textAreaTop" r="textAreaRight" b="textAreaBottom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7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custGeom>
                  <a:avLst/>
                  <a:gdLst>
                    <a:gd name="textAreaLeft" fmla="*/ 0 w 75240"/>
                    <a:gd name="textAreaRight" fmla="*/ 75600 w 752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custGeom>
                  <a:avLst/>
                  <a:gdLst>
                    <a:gd name="textAreaLeft" fmla="*/ 0 w 899640"/>
                    <a:gd name="textAreaRight" fmla="*/ 900000 w 899640"/>
                    <a:gd name="textAreaTop" fmla="*/ 0 h 874080"/>
                    <a:gd name="textAreaBottom" fmla="*/ 874440 h 874080"/>
                  </a:gdLst>
                  <a:ahLst/>
                  <a:rect l="textAreaLeft" t="textAreaTop" r="textAreaRight" b="textAreaBottom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custGeom>
                  <a:avLst/>
                  <a:gdLst>
                    <a:gd name="textAreaLeft" fmla="*/ 0 w 1805040"/>
                    <a:gd name="textAreaRight" fmla="*/ 1805400 w 1805040"/>
                    <a:gd name="textAreaTop" fmla="*/ 0 h 356400"/>
                    <a:gd name="textAreaBottom" fmla="*/ 356760 h 356400"/>
                  </a:gdLst>
                  <a:ahLst/>
                  <a:rect l="textAreaLeft" t="textAreaTop" r="textAreaRight" b="textAreaBottom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custGeom>
                  <a:avLst/>
                  <a:gdLst>
                    <a:gd name="textAreaLeft" fmla="*/ 0 w 38880"/>
                    <a:gd name="textAreaRight" fmla="*/ 39240 w 38880"/>
                    <a:gd name="textAreaTop" fmla="*/ 0 h 38520"/>
                    <a:gd name="textAreaBottom" fmla="*/ 38880 h 38520"/>
                  </a:gdLst>
                  <a:ahLst/>
                  <a:rect l="textAreaLeft" t="textAreaTop" r="textAreaRight" b="textAreaBottom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1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custGeom>
                  <a:avLst/>
                  <a:gdLst>
                    <a:gd name="textAreaLeft" fmla="*/ 0 w 58680"/>
                    <a:gd name="textAreaRight" fmla="*/ 59040 w 5868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2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custGeom>
                  <a:avLst/>
                  <a:gdLst>
                    <a:gd name="textAreaLeft" fmla="*/ 0 w 97560"/>
                    <a:gd name="textAreaRight" fmla="*/ 97920 w 97560"/>
                    <a:gd name="textAreaTop" fmla="*/ 0 h 21240"/>
                    <a:gd name="textAreaBottom" fmla="*/ 21600 h 21240"/>
                  </a:gdLst>
                  <a:ahLst/>
                  <a:rect l="textAreaLeft" t="textAreaTop" r="textAreaRight" b="textAreaBottom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3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custGeom>
                  <a:avLst/>
                  <a:gdLst>
                    <a:gd name="textAreaLeft" fmla="*/ 0 w 54360"/>
                    <a:gd name="textAreaRight" fmla="*/ 54720 w 54360"/>
                    <a:gd name="textAreaTop" fmla="*/ 0 h 56880"/>
                    <a:gd name="textAreaBottom" fmla="*/ 57240 h 56880"/>
                  </a:gdLst>
                  <a:ahLst/>
                  <a:rect l="textAreaLeft" t="textAreaTop" r="textAreaRight" b="textAreaBottom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4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custGeom>
                  <a:avLst/>
                  <a:gdLst>
                    <a:gd name="textAreaLeft" fmla="*/ 0 w 42840"/>
                    <a:gd name="textAreaRight" fmla="*/ 43200 w 428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5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56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7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8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9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0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1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4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5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6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67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268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2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3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4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5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6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7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8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9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0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1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2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283" name="Picture 91" descr="earth"/>
            <p:cNvPicPr/>
            <p:nvPr/>
          </p:nvPicPr>
          <p:blipFill>
            <a:blip r:embed="rId2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0" y="20570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F698F-CAEB-4A88-8BF5-F633E90FC6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23880" y="1828800"/>
            <a:ext cx="746784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The Atlantic Slave Tra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523880" y="36576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forced migration of African peoples to the New Worl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The _________________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____________ not new to the New Wor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me, Greece, Persia, and others all had sla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avery increases as Islam spreads due to view that non-Muslims can be made sla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se of the ____________________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e to ___________________________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ricans had been exposed to European diseases and thus were less likely to die of illn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_____________capture slaves and sell them to slave trades on the coast of Afr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troys the ruling class of Ar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The ___________________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ic Op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 goods are sent to _______ in exchange for _________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aves are sent to the __________on the _________________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die from mistreatment, suicide, or horrible conditions on the 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erican Colonists send ___________ to Europe in exchange for __________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Box 7"/>
          <p:cNvSpPr/>
          <p:nvPr/>
        </p:nvSpPr>
        <p:spPr>
          <a:xfrm>
            <a:off x="1523880" y="632448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ketch one of the pictures and write a ca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1752480" y="624852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ketch one of the pictures and write a ca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8"/>
          <p:cNvSpPr/>
          <p:nvPr/>
        </p:nvSpPr>
        <p:spPr>
          <a:xfrm>
            <a:off x="1905120" y="624852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ketch one of the pictures and write a ca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8"/>
          <p:cNvSpPr/>
          <p:nvPr/>
        </p:nvSpPr>
        <p:spPr>
          <a:xfrm>
            <a:off x="1981080" y="632448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ketch one of the pictures and write a ca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The Impact of Slavery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___________________________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ion of leaders disapp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earms lead to increased viol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__________________________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icultural Expert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__________________________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ic, Art, Fo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_______________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Invisible Children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isible Children is a documentary made by three ordinary men from Amer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expectedly, they uncovered some of the worst modern-day sla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documented their journey and shed light on an atrocity that had been under the radar of the world’s view for more than 17 yea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6T18:24:31Z</dcterms:created>
  <dc:creator>Ken Olson</dc:creator>
  <dc:description/>
  <dc:language>en-US</dc:language>
  <cp:lastModifiedBy>admin</cp:lastModifiedBy>
  <dcterms:modified xsi:type="dcterms:W3CDTF">2011-01-14T16:38:25Z</dcterms:modified>
  <cp:revision>32</cp:revision>
  <dc:subject/>
  <dc:title>Exploration of the Americas</dc:title>
</cp:coreProperties>
</file>